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234-D157-47C9-BCAA-09E782F4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7AB-49F7-4A5C-B9D5-CA44F1FF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6E3-3995-460B-86DD-7CA406FF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618-AA31-4B5B-8680-9B57156A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F79-1044-4720-8277-5982C923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D13-81C3-4D90-8248-DB80F84B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C07-87DF-4C49-8EA9-2323B168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4F9-CD74-4D34-8F03-CDFCBBA8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439-A840-4769-8A6D-76CBA817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B81-403F-48CA-9DC2-7E869F7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760-DFB7-4D9C-8BF6-71AED58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44F-E1B7-4E9D-B990-EC17F988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FAB-23A9-474B-BDDD-2D7639C8F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gUI_fqS6lk" TargetMode="External"/><Relationship Id="rId3" Type="http://schemas.openxmlformats.org/officeDocument/2006/relationships/hyperlink" Target="http://www.youtube.com/watch?v=nupXxN1L0qo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8327880" cy="6337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50720" y="2641680"/>
            <a:ext cx="923148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Lucida Handwriting"/>
                <a:ea typeface="Lucida Handwriting"/>
              </a:rPr>
              <a:t>Hawaiian Folk Music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57360" y="614520"/>
            <a:ext cx="8542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Lucida Handwriting"/>
                <a:ea typeface="Lucida Handwriting"/>
              </a:rPr>
              <a:t>About the Lei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400800" y="4064040"/>
            <a:ext cx="3054240" cy="3112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53960" y="1625760"/>
            <a:ext cx="934236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Leis can be made of flowers, leaves, nuts, shells, feathers or bon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Brought to the Hawaiian Islands by early Polynesian voya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The maile lei is the most sacred. It is used to signify peace between opposing chiefs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41200" y="4143240"/>
            <a:ext cx="578988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Handwriting"/>
                <a:ea typeface="Lucida Handwriting"/>
              </a:rPr>
              <a:t>Lei Etiquet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yone can wear a le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Wear the lei slightly draped over the back and front of shoulders</a:t>
            </a:r>
            <a:r>
              <a:rPr b="0" lang="en-US" sz="2400" spc="-1" strike="noStrike">
                <a:solidFill>
                  <a:srgbClr val="000000"/>
                </a:solidFill>
                <a:latin typeface="&quot;Lucida Handwriting&quot;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&quot;Lucida Handwriting&quot;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o not remove the lei in the presence of who gave it to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307800"/>
            <a:ext cx="9658080" cy="9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&quot;Lucida Handwriting&quot;"/>
              </a:rPr>
              <a:t> 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Lucida Handwriting"/>
                <a:ea typeface="Lucida Handwriting"/>
              </a:rPr>
              <a:t>History of H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422000"/>
            <a:ext cx="9647280" cy="56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Early Hawaiians did not have a written language, so Hula was passed down oral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Hula is sacred to both men and women becuase both sexes are allowed to d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In the 1800's hula was almost lost because the missionaries forbid the native Hawaiians to danc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Styles of Hula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ula kahiko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aditional and ritualistic style of hula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www.youtube.com/watch?v=-Er0cltTD5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hula auana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westernized hula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46240" y="73080"/>
            <a:ext cx="661176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Handwriting"/>
                <a:ea typeface="Lucida Handwriting"/>
              </a:rPr>
              <a:t>Uli Uli and Ip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44440" y="1109520"/>
            <a:ext cx="56102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1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Hold the uli, uli with fingers wrapped around gour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2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Practice shaking the uli, uli in one position from left to right, one hand at a t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3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Next move the uli, uli across your body while moving it from left to write in your h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4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The goal is to keep it moving in rhythm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  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a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Count 1, 2, 3, 4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5994360" y="1015920"/>
            <a:ext cx="3832200" cy="30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203040" y="4114800"/>
            <a:ext cx="448812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4775040" y="4379760"/>
            <a:ext cx="519300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1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Hold the ipu as shown in the picture.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Practice playing the ipu with your u (lower palm) and te (fingers). In this pattern u te u te u te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3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Try different rhythms</a:t>
            </a:r>
            <a:r>
              <a:rPr b="0" lang="en-US" sz="1300" spc="-1" strike="noStrike">
                <a:solidFill>
                  <a:srgbClr val="000000"/>
                </a:solidFill>
                <a:latin typeface="Chalkboard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halkboard"/>
              </a:rPr>
              <a:t>  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a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,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 (repeat)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b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,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,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 te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 (repeat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307800"/>
            <a:ext cx="9658080" cy="9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Lucida Handwriting"/>
                <a:ea typeface="Lucida Handwriting"/>
              </a:rPr>
              <a:t>Pu’ili/Split Bamboo and Ukule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2720" y="1012680"/>
            <a:ext cx="4832640" cy="36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1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Hold the Pu’ili at the solid end (not the split end) like you would hold a bottle.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Use only the wrist and practice hitting them together (like the demonstration)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3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Now practice hitting the Pu’ili on your shoulders—remember only use the wrist!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4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Now make a rhythm. 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    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a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Count 1, 2, 3 out and 4 on the shoulders.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    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b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Make your own pattern!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07880" y="1116000"/>
            <a:ext cx="3984840" cy="347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6908760" y="4572000"/>
            <a:ext cx="2841840" cy="96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5384880" y="5587920"/>
            <a:ext cx="2728800" cy="86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6908760" y="6502320"/>
            <a:ext cx="2811600" cy="94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6"/>
          <a:stretch/>
        </p:blipFill>
        <p:spPr>
          <a:xfrm>
            <a:off x="276120" y="4775040"/>
            <a:ext cx="46576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imberly Putnam</cp:lastModifiedBy>
  <dcterms:modified xsi:type="dcterms:W3CDTF">2010-08-16T18:00:26Z</dcterms:modified>
  <cp:revision>2</cp:revision>
  <dc:subject/>
  <dc:title>PowerPoint Presentation</dc:title>
</cp:coreProperties>
</file>